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39027C0-C4BC-40F7-A69F-71A0E5CBE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00240" y="507960"/>
            <a:ext cx="2395440" cy="1797120"/>
          </a:xfrm>
          <a:prstGeom prst="rect">
            <a:avLst/>
          </a:prstGeom>
          <a:ln w="0">
            <a:noFill/>
          </a:ln>
        </p:spPr>
      </p:sp>
      <p:sp>
        <p:nvSpPr>
          <p:cNvPr id="144" name="PlaceHolder 2"/>
          <p:cNvSpPr>
            <a:spLocks noGrp="1"/>
          </p:cNvSpPr>
          <p:nvPr>
            <p:ph type="body"/>
          </p:nvPr>
        </p:nvSpPr>
        <p:spPr>
          <a:xfrm>
            <a:off x="623520" y="2538360"/>
            <a:ext cx="5607000" cy="60609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from the womb of a woman blessed by God that the human race descended.  It was the hand of a woman that reached up and took the forbidden fruit from the tree of Knowledge of Good and Evil.  It was her lips that first pressed against the fruit as she, in disobedience to God, tasted the fruit and from that one act, sin in all its evil, dug its angry claws into God’s greatest and most loved creation – humanity.  But, it was also the womb of woman, untouched by man, that God used to cradle and bring forth the Savior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has remained the same since Eve – we usually find ourselves in the thick of things – sometimes positively – sometimes negatively.  But always, we find women who are deeply committed to God and often ready to be the first to tell the Good News or take a risk on His be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pages of scripture we find the stories of women who have shaped human history.  We know the names of some, for others we find only a non-descript – nameless line or two.  But always we find the traces of a woman who has gone before us, making a pathway for us in our journey toward God.  Though we’ll look at the lives of several women in our study – there will be many others whose story we don’t have time to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with their own hands helped rebuild the walls of Jerusalem (Neh 3: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led the nation in worship (Ps 68:25, Ex. 15: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uccessfully lobbied for political change (Num. 27: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erved as prophets, judge, and Queens (Ex. 15:20; Judges 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bore and raised up men and women who served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ge when women were not much more than a possession we find women who bravely stood against opposition be faithful to God and rescue their family. See 1Sam.25</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021040" y="609480"/>
            <a:ext cx="2625480" cy="1970280"/>
          </a:xfrm>
          <a:prstGeom prst="rect">
            <a:avLst/>
          </a:prstGeom>
          <a:ln w="0">
            <a:noFill/>
          </a:ln>
        </p:spPr>
      </p:sp>
      <p:sp>
        <p:nvSpPr>
          <p:cNvPr id="159"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AMILY OF GIDEON </a:t>
            </a:r>
            <a:r>
              <a:rPr b="0" lang="en-US" sz="1200" spc="-1" strike="noStrike">
                <a:solidFill>
                  <a:srgbClr val="000000"/>
                </a:solidFill>
                <a:latin typeface="Arial"/>
              </a:rPr>
              <a:t>(Judges 6-8) </a:t>
            </a:r>
            <a:r>
              <a:rPr b="1" lang="en-US" sz="1200" spc="-1" strike="noStrike">
                <a:solidFill>
                  <a:srgbClr val="000000"/>
                </a:solidFill>
                <a:latin typeface="Arial"/>
              </a:rPr>
              <a:t>(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play a very private role in the story of Gideon.  One could read through the whole story and miss it entirely.  We know about the call of Gideon, the test of the fleece, the test of the soldiers drinking from the brook, and the victory with torches and jars.  It is a great story.  But even this story tells us something about the women of early Israel.  After the death of Gideon, the book tells us “Gideon had seventy sons, his own offspring, for he had many wives.  His concubine who was in Shechem also bore him a son, and he named him Abimelech” (8:30-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of Gideon with his 70 sons and many wives is very different than the marriage God designed in Eden.  It is more like the marriages of Solomon, building up a kingdom with many wives.  It is not like the carefully planned marriage that Caleb made for his daughter, matching her up with a hero and the first major judge. And there is another wife on the scene, a concubine from Shechem.  The son of this wife will bring down the house of Gideon and bring widespread destruction in Isra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35160" y="685800"/>
            <a:ext cx="2625840" cy="1969920"/>
          </a:xfrm>
          <a:prstGeom prst="rect">
            <a:avLst/>
          </a:prstGeom>
          <a:ln w="0">
            <a:noFill/>
          </a:ln>
        </p:spPr>
      </p:sp>
      <p:sp>
        <p:nvSpPr>
          <p:cNvPr id="161"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NE FOR STONE: THE CERTAIN WOMAN OF THEBEZ </a:t>
            </a:r>
            <a:r>
              <a:rPr b="0" lang="en-US" sz="1200" spc="-1" strike="noStrike">
                <a:solidFill>
                  <a:srgbClr val="000000"/>
                </a:solidFill>
                <a:latin typeface="Arial"/>
              </a:rPr>
              <a:t>(Judges 9:50-50) </a:t>
            </a:r>
            <a:r>
              <a:rPr b="1" lang="en-US" sz="1200" spc="-1" strike="noStrike">
                <a:solidFill>
                  <a:srgbClr val="000000"/>
                </a:solidFill>
                <a:latin typeface="Arial"/>
              </a:rPr>
              <a:t>(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ideon’s death, Abimelech, the son of the secondary wife, rises up against all the 70 sons of Gideon.  Conspiring with his kinsfolk in Shechem, he kills all of his brothers “on one stone.”  Then he goes on a rampage, destroying cities, burning fields.  The Israelites have fought against many foreign kings, but this enemy is one of their own.  He even burns down his own hometown of Shechem, killing about a thousand men and wome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approaches the neighboring town of Thebez, he intends to destroy it as he has the other towns.  He approaches people as they are working peacefully in their fields, destroying people, crops, and cities.  But this story is different.  The people, “all the men and women and all the lords of the city” flee to a tower.  When Abimelech comes to set fire to the tower, just as he did in Shechem, “a certain woman threw an upper millstone on Abimelech’s head, and crushed his skull.”   An unexpected heroine again shows up on the scene.  We don’t know her name.  She is only known as “a certain woman,” but her action delivered Israel from a reign of terror. It did more than that.  It punished Abimelech for the murder of his 70 brothers</a:t>
            </a:r>
            <a:r>
              <a:rPr b="0" lang="en-US" sz="1200" spc="-1" strike="noStrike">
                <a:solidFill>
                  <a:srgbClr val="000000"/>
                </a:solidFill>
                <a:latin typeface="Symbol"/>
                <a:ea typeface="Symbol"/>
              </a:rPr>
              <a:t></a:t>
            </a:r>
            <a:r>
              <a:rPr b="0" lang="en-US" sz="1200" spc="-1" strike="noStrike">
                <a:solidFill>
                  <a:srgbClr val="000000"/>
                </a:solidFill>
                <a:latin typeface="Arial"/>
              </a:rPr>
              <a:t>on one stone.  It was God’s punishment</a:t>
            </a:r>
            <a:r>
              <a:rPr b="0" lang="en-US" sz="1200" spc="-1" strike="noStrike">
                <a:solidFill>
                  <a:srgbClr val="000000"/>
                </a:solidFill>
                <a:latin typeface="Symbol"/>
                <a:ea typeface="Symbol"/>
              </a:rPr>
              <a:t></a:t>
            </a:r>
            <a:r>
              <a:rPr b="0" lang="en-US" sz="1200" spc="-1" strike="noStrike">
                <a:solidFill>
                  <a:srgbClr val="000000"/>
                </a:solidFill>
                <a:latin typeface="Arial"/>
              </a:rPr>
              <a:t>stone for stone. The text says, “Thus God repaid Abimelech for the crime he committed against his father in killing his seventy brothers.” And he did so by the courage and resourcefulness of “a certain woman” who used an ordinary household implement in rescuing her city.  Abimelech is a villain. He is a destroyer of home, family, fields, and cities, and even women take up arms against him. With Abimelech dead, the people of Thebez can return to their homes and peacetime work.  “When the Israelites saw that Abimelech was dead, they all went home.”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rtain woman of Thebez</a:t>
            </a:r>
            <a:r>
              <a:rPr b="0" lang="en-US" sz="1200" spc="-1" strike="noStrike">
                <a:solidFill>
                  <a:srgbClr val="000000"/>
                </a:solidFill>
                <a:latin typeface="Symbol"/>
                <a:ea typeface="Symbol"/>
              </a:rPr>
              <a:t></a:t>
            </a:r>
            <a:r>
              <a:rPr b="0" lang="en-US" sz="1200" spc="-1" strike="noStrike">
                <a:solidFill>
                  <a:srgbClr val="000000"/>
                </a:solidFill>
                <a:latin typeface="Arial"/>
              </a:rPr>
              <a:t>unlike Achsah, Deborah, and Jael, we don’t know her name.  But Israel remembers her well.  She is another of the unlikely heroes of the Book of Judges.  And Israel remembers Abimelech, much to his dismay.  He was conscious of his place in history, and before his death he called to his armor bearer and said, “Draw your sword and kill me, so people will not say about me, ‘A woman killed him.’” His attempt at image building didn’t do him any good. That is the main thing people remembered about him (See 2 Samuel 11: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033640" y="685800"/>
            <a:ext cx="2523960" cy="1893960"/>
          </a:xfrm>
          <a:prstGeom prst="rect">
            <a:avLst/>
          </a:prstGeom>
          <a:ln w="0">
            <a:noFill/>
          </a:ln>
        </p:spPr>
      </p:sp>
      <p:sp>
        <p:nvSpPr>
          <p:cNvPr id="163"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PHTHAH’S DAUGHTER </a:t>
            </a:r>
            <a:r>
              <a:rPr b="0" lang="en-US" sz="1200" spc="-1" strike="noStrike">
                <a:solidFill>
                  <a:srgbClr val="000000"/>
                </a:solidFill>
                <a:latin typeface="Arial"/>
              </a:rPr>
              <a:t>(Judges 11) </a:t>
            </a:r>
            <a:r>
              <a:rPr b="1" lang="en-US" sz="1200" spc="-1" strike="noStrike">
                <a:solidFill>
                  <a:srgbClr val="000000"/>
                </a:solidFill>
                <a:latin typeface="Arial"/>
              </a:rPr>
              <a:t>(OH-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ere, the stories of women in the Book of Judges become more perplexing.  Jephthah’s daughter is another example of the father-daughter relationships. Both Caleb and Jephthah utter powerful words that affect the future of their daughters, but what a difference in the results.  Jephthah returns home victorious from war with the Ammonites.  His return should be a great cause for celebration.  Typically, as we see in the story of David and Saul, the women of Israel will come out to greet the warriors coming home with timbrels and songs (1 Samuel 18:5-7).  But the home Jephthah returns to is isolated, far up north in Gilead.  He is the son of a prostitute and has been exiled by his father’s legitimate sons.  Now, when he returns home, the only woman who comes out to greet him with timbrels and dancing is his daughter, his only child.  What should be a joyous reunion is a tragedy.  He has made a vow that “whoever comes out of the doors of my house to meet me, when I return victorious from the Ammonites, shall be the Lord’s to be offered up by me as a burnt offering (11:30-31). A vow is a bargain made with God.  It is irrevocable.  Once the words are out of his mouth, they cannot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ughter knows that.  Standing before her father and hearing his condemnation that she is the cause of his trouble, she replies, “My father, if you have opened your mouth to the Lord, do to me according to what has gone out of your mouth.”  But she asks for time.  A reprieve for two months, time to be with her women friends, time to grieve her lost life.  Her name is forgotten.  But the daughters of Israel remembered it, and for four days every year, they remembered their friend.  So important was this remembrance that it became a custom in Israe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19160" y="685800"/>
            <a:ext cx="2828880" cy="2122560"/>
          </a:xfrm>
          <a:prstGeom prst="rect">
            <a:avLst/>
          </a:prstGeom>
          <a:ln w="0">
            <a:noFill/>
          </a:ln>
        </p:spPr>
      </p:sp>
      <p:sp>
        <p:nvSpPr>
          <p:cNvPr id="16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ZAN THE MATCHMAKER (OH-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ing Jephthah’s story is a group of very short narratives called the minor judges.  Instead of telling stories of heroic deeds as we see in the major judges, they are written more like a ledger or log of rulers who live a life of peace and prosperity.  Typically, these stories tell where a person lived, how long he ruled, that he died, and where he was buried.  These are the ordinary events of a peaceful life.  They hint at fruitful, prosperous lives building cities and families.  Often, in the midst of these accounts, are details of family lif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the story of Ibzan of Bethlehem as an example (12:8-10). His story immediately follows that of Jephthah. The basic information is that he lived in Bethlehem, judged Israel seven years, died, and was buried at Bethlehem.  In between these events are 60 weddings.  He is the grand matchmaker.  He brings in 30 young women from outside his clan to marry his sons; and he arranges marriages outside the clan for his 30 daugh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marriages strengthen his family.  Each marriage contract is designed with someone outside the clan to enlarge the clan’s alliances.  Like Caleb, he thinks carefully about the marriages of the next generation.  Like Gideon, he has many wives to establish this family; unlike Gideon, he does not compromise the unity and coherence of the family with outside influ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is an integral concern in the stories of the Judges.  At the beginning of the book, the seeds of discord were attributable to poorly chosen marriages outside the tribes of Israel.  “They took their daughters as wives for themselves, and their own daughters they gave to their sons; and they worshiped their gods” (3:5-6).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phthah also fits this pattern.  His story ends with the minor judge patter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ephthah judged Israel six years.  Then, Jephthah the Gileadi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nd was buried in his town in Gilead” (1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story of his rich progeny, like the 60 sons and daughters of Ibzan.  He had only one daughter, and he squandered her life by his foolish v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058840" y="457200"/>
            <a:ext cx="2625840" cy="1969920"/>
          </a:xfrm>
          <a:prstGeom prst="rect">
            <a:avLst/>
          </a:prstGeom>
          <a:ln w="0">
            <a:noFill/>
          </a:ln>
        </p:spPr>
      </p:sp>
      <p:sp>
        <p:nvSpPr>
          <p:cNvPr id="167"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ON AND HIS MOTHER </a:t>
            </a:r>
            <a:r>
              <a:rPr b="0" lang="en-US" sz="1200" spc="-1" strike="noStrike">
                <a:solidFill>
                  <a:srgbClr val="000000"/>
                </a:solidFill>
                <a:latin typeface="Arial"/>
              </a:rPr>
              <a:t>(Judges 13-16) </a:t>
            </a:r>
            <a:r>
              <a:rPr b="1" lang="en-US" sz="1200" spc="-1" strike="noStrike">
                <a:solidFill>
                  <a:srgbClr val="000000"/>
                </a:solidFill>
                <a:latin typeface="Arial"/>
              </a:rPr>
              <a:t>(OH-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of Samson revolves around the women in his life.  Now, instead of a father-daughter relationship, we have a mother-son relationship.  The first and most important woman in Samson’s life is his mother, the unnamed wife of Manoah.  Like many of the famous matriarchs of Israel, she was barren, but that is never a problem for God.  In fact, it seems almost like a prelude to a wonderful birth of a great leader.  Samson’s story glows with great hop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gel appears to his mother, announcing his birth and instructing her on how to raise him in the Nazirite life, as one dedicated to God, not for just a period of time, as were most Nazirites, but for his entire lif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e tells her husband of the wondrous visitation, he entreats the Lord to let an angel come and teach them what to do.  But, that is just what has happened. An angel has come and has told the mother how to raise the child.  So, what is his question?  Is it possible he does not believe her?  Is he not able to hear a woman’s testimony?  Whatever the reason for his prayer, God answers it and sends the angel to come, but again he comes to the woman and waits while she goes and gets her husband. In reply to his question of what they should do for the child, he only says, “Let the woman give heed to all that I said to her.”  He adds a few partial examples of his instruction, but he does not repeat his entire communication.  The instructions are to her.  She is responsible for teaching the laws of God to her son.  And she accepts God’s instructions without question.  She knows him to be a messenger from God and pointedly does not ask his name.  But Manoah probes into his identity and asks his name and invites him to dinner, as if he were an ordinary messenger rather than a divine emissary.  When the angel disappears in a flame of fire, Manoah finally realizes who he has been talking to and is convinced that they will die.  But his wife reasons it through.  If the Lord were going to kill them, he would not have accepted their offering or announced a birth.  The woman has received the word from the Lord and knows the Lord who has sent it.  No wonder she was chosen as the mother of a leader in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amson is not the leader of armies that we have seen before in the heroes of Judges.  He is a rogue, and when he does deliver Israel, it seems almost accidental, and always connected with his own desire for personal reveng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249640" y="685800"/>
            <a:ext cx="2625480" cy="1969920"/>
          </a:xfrm>
          <a:prstGeom prst="rect">
            <a:avLst/>
          </a:prstGeom>
          <a:ln w="0">
            <a:noFill/>
          </a:ln>
        </p:spPr>
      </p:sp>
      <p:sp>
        <p:nvSpPr>
          <p:cNvPr id="169" name="PlaceHolder 2"/>
          <p:cNvSpPr>
            <a:spLocks noGrp="1"/>
          </p:cNvSpPr>
          <p:nvPr>
            <p:ph type="body"/>
          </p:nvPr>
        </p:nvSpPr>
        <p:spPr>
          <a:xfrm>
            <a:off x="685440" y="2971440"/>
            <a:ext cx="5607000" cy="58561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1)</a:t>
            </a:r>
            <a:r>
              <a:rPr b="0" lang="en-US" sz="1200" spc="-1" strike="noStrike">
                <a:solidFill>
                  <a:srgbClr val="000000"/>
                </a:solidFill>
                <a:latin typeface="Arial"/>
              </a:rPr>
              <a:t> The stories of Samson, told around the firesides of ancient Israel, are stories of his relationships with Philistine women. He does not provide a model of the good marriage we have seen before.  He asks his parents to arrange a marriage with a Timnite woman, “but his father and mother said to him, ‘Is there not a woman among your kin, or among all our people, that you must go to take a wife from the uncircumcised Philistines?’” But that marriage results in tragedy for the bride and her family and the entire city.  The bride seems to be an innocent pawn in rivalry between m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lah is different.  Not an innocent pawn, she is the Philistine Jael.  Though Samson is the hero, Delilah takes center stage.  Her relationship with Samson has a purpose.  She is to discover the source of his superhuman strength, so the Philistines can deal with this one-man army in their midst.  She makes her own deal with the Philistine lords</a:t>
            </a:r>
            <a:r>
              <a:rPr b="0" lang="en-US" sz="1200" spc="-1" strike="noStrike">
                <a:solidFill>
                  <a:srgbClr val="000000"/>
                </a:solidFill>
                <a:latin typeface="Symbol"/>
                <a:ea typeface="Symbol"/>
              </a:rPr>
              <a:t></a:t>
            </a:r>
            <a:r>
              <a:rPr b="0" lang="en-US" sz="1200" spc="-1" strike="noStrike">
                <a:solidFill>
                  <a:srgbClr val="000000"/>
                </a:solidFill>
                <a:latin typeface="Arial"/>
              </a:rPr>
              <a:t>there is no mention of her father. She speaks for herself.  Her purpose is clear, even to Samson.  She makes no attempt to deceive.  She is utterly forthright in her purpose to discover his strength so he may be bound.  It is a game. He plays her game for a while and then he seems to lose sight of his own purpose.  He actually tells her his thoughts about it.  But the game is deadly serious.  This time Samson loses.  Instead of throwing off the bonds as before, he is trapped and helpless, his great strength gone.  Delilah has accomplished her purpose.  But God will still accomplish his purpose through Samson, and though Samson’s own purpose is simply to avenge the loss of his sight, the result is the deliverance of Isra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677960" y="685800"/>
            <a:ext cx="2625840" cy="1969920"/>
          </a:xfrm>
          <a:prstGeom prst="rect">
            <a:avLst/>
          </a:prstGeom>
          <a:ln w="0">
            <a:noFill/>
          </a:ln>
        </p:spPr>
      </p:sp>
      <p:sp>
        <p:nvSpPr>
          <p:cNvPr id="171"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AH AND HIS MOTHER </a:t>
            </a:r>
            <a:r>
              <a:rPr b="0" lang="en-US" sz="1200" spc="-1" strike="noStrike">
                <a:solidFill>
                  <a:srgbClr val="000000"/>
                </a:solidFill>
                <a:latin typeface="Arial"/>
              </a:rPr>
              <a:t>(Judges 17:1-4) </a:t>
            </a:r>
            <a:r>
              <a:rPr b="1" lang="en-US" sz="1200" spc="-1" strike="noStrike">
                <a:solidFill>
                  <a:srgbClr val="000000"/>
                </a:solidFill>
                <a:latin typeface="Arial"/>
              </a:rPr>
              <a:t>(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fter the story of Samson is another story of a mother and son.  The story introduces the chaos and barbarity of the final section.  No longer are we talking about judges and deliverance.  Now, all the people do what is right in their own eyes.  Micah steals a fortune in silver from his mother; his mother curses whoever stole it, and Micah, hearing the curse, quickly returns the money and confesses his theft.  The mother, in return, blesses him and consecrates a portion of it to be made into an idol and gave it to Micah for his household shrine.  Thus it was in Israel.  Sons steal from their mothers.  Mothers, instead of teaching their children the ways of God, lead them into idolatry.  Instead of speaking the laws of God, they speak blessings and cursings.  God seems very distant.  The story of the breakdown in family, the breakdown in community, and the breakdown in religion is an apt introduction to the tragic last story in the Book of Jud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779480" y="685800"/>
            <a:ext cx="2727360" cy="2046240"/>
          </a:xfrm>
          <a:prstGeom prst="rect">
            <a:avLst/>
          </a:prstGeom>
          <a:ln w="0">
            <a:noFill/>
          </a:ln>
        </p:spPr>
      </p:sp>
      <p:sp>
        <p:nvSpPr>
          <p:cNvPr id="173" name="PlaceHolder 2"/>
          <p:cNvSpPr>
            <a:spLocks noGrp="1"/>
          </p:cNvSpPr>
          <p:nvPr>
            <p:ph type="body"/>
          </p:nvPr>
        </p:nvSpPr>
        <p:spPr>
          <a:xfrm>
            <a:off x="701280" y="2895480"/>
            <a:ext cx="560700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EVITE AND HIS CONCUBINE </a:t>
            </a:r>
            <a:r>
              <a:rPr b="0" lang="en-US" sz="1200" spc="-1" strike="noStrike">
                <a:solidFill>
                  <a:srgbClr val="000000"/>
                </a:solidFill>
                <a:latin typeface="Arial"/>
              </a:rPr>
              <a:t>(Judges 19) </a:t>
            </a:r>
            <a:r>
              <a:rPr b="1" lang="en-US" sz="1200" spc="-1" strike="noStrike">
                <a:solidFill>
                  <a:srgbClr val="000000"/>
                </a:solidFill>
                <a:latin typeface="Arial"/>
              </a:rPr>
              <a:t>(OH-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Levite and his wife is almost too painful to read.  It is unrelentingly horrific.  Every relationship is destroyed</a:t>
            </a:r>
            <a:r>
              <a:rPr b="0" lang="en-US" sz="1200" spc="-1" strike="noStrike">
                <a:solidFill>
                  <a:srgbClr val="000000"/>
                </a:solidFill>
                <a:latin typeface="Symbol"/>
                <a:ea typeface="Symbol"/>
              </a:rPr>
              <a:t></a:t>
            </a:r>
            <a:r>
              <a:rPr b="0" lang="en-US" sz="1200" spc="-1" strike="noStrike">
                <a:solidFill>
                  <a:srgbClr val="000000"/>
                </a:solidFill>
                <a:latin typeface="Arial"/>
              </a:rPr>
              <a:t>father and daughter, husband and wife, host and guest, tribe and tribe.  Israel has hit rock bottom.  No one is given a name.  Each person is known only by what should be an honored relationship with another.  The main character is a Levite, someone who seems to know nothing of God.  He takes a concubine, who is a secondary wife, but nonetheless, a wife. The marriage does not go well, and she returns to her father. After four months her husband goes to his father-in-law’s home to woo her and “speak tenderly” to her.  But the only words spoken are between men.  Throughout the story, she never speaks, and is spoken to only o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ity of the father-in-law is relentless.  After a three-day stay, they prepare to go, but her father pleads, ‘Fortify yourself with a bit of food, and after that you may go.’ So the two men sat and ate and drank together.”  Where is the woman he had come to woo?  She is nowhere in sight.  This is an exercise in male bonding.  It delays their departure for five days, until late on the fifth day; they begin their journey home, too late to find lod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arriving in Gibeah they stay in the city square until an old man invites them home, to another scene of hospitality. The obligation of the host to provide safety and protection for his guests extends only to the men. In a scene reminiscent of the story of Lot and his daughters, the host pleads with the gang that has surrounded the house demanding access to the Levite.  He says, “No, my brothers, do not act so wickedly.  Since this man is my guest, do not do this vile thing.  Here are my virgin daughter and his concubine; let me bring them out now.  Ravish them and do whatever you want to them; but against this man do not do such a vile thing.”  It is not the host who throws the Levite’s wife out the door.  It is the Levite himself: “So the man seized his concubine, and put her out to them.  They wantonly raped her, and abused her all through the night until the morn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82880" y="609480"/>
            <a:ext cx="2625480" cy="1970280"/>
          </a:xfrm>
          <a:prstGeom prst="rect">
            <a:avLst/>
          </a:prstGeom>
          <a:ln w="0">
            <a:noFill/>
          </a:ln>
        </p:spPr>
      </p:sp>
      <p:sp>
        <p:nvSpPr>
          <p:cNvPr id="175"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4) </a:t>
            </a:r>
            <a:r>
              <a:rPr b="0" lang="en-US" sz="1200" spc="-1" strike="noStrike">
                <a:solidFill>
                  <a:srgbClr val="000000"/>
                </a:solidFill>
                <a:latin typeface="Arial"/>
              </a:rPr>
              <a:t>The vignette of the concubine crawling back to the man’s house and falling across the doorway typifies the depravity of the story.  In that scene every sacred relationship is violated.  The Levite, now called her master rather than her husband, gets up the next morning, opens the door of the house, goes out the door, and sees her “lying at the door of the house, with her hands on the threshold,” says, “Get up.  We are going.”  These are the only words he speaks to the wo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gnette not only captures the horror of the story, but it also invites comparison to the first woman we have met in the Book of Judges.  When there is no answer to his command, he puts her on the donkey and sets out for home.  Remember Achsah seated on a donkey, accompanied by her husband, on her way to her new home.  What a difference.  Achsah speaks freely with her husband and her father and is heard. The concubine is silent, never speaking, spoken to only once, though we can’t be sure if she could hear.  We are not even sure as she rides on the donkey if she is alive.  Her husband cuts her into 12 pieces, but the story never tells us when she died.  But now her dead and dismembered body speaks volumes.  It calls Israel to war, not against enemy invaders but against the tribe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ivil war</a:t>
            </a:r>
            <a:r>
              <a:rPr b="0" lang="en-US" sz="1200" spc="-1" strike="noStrike">
                <a:solidFill>
                  <a:srgbClr val="000000"/>
                </a:solidFill>
                <a:latin typeface="Symbol"/>
                <a:ea typeface="Symbol"/>
              </a:rPr>
              <a:t></a:t>
            </a:r>
            <a:r>
              <a:rPr b="0" lang="en-US" sz="1200" spc="-1" strike="noStrike">
                <a:solidFill>
                  <a:srgbClr val="000000"/>
                </a:solidFill>
                <a:latin typeface="Arial"/>
              </a:rPr>
              <a:t>tribe against tribe in Israel.  And they nearly wipe out the tribe of Benjamin.  Only 600 men remain aliv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24080" y="685800"/>
            <a:ext cx="2828880" cy="2122560"/>
          </a:xfrm>
          <a:prstGeom prst="rect">
            <a:avLst/>
          </a:prstGeom>
          <a:ln w="0">
            <a:noFill/>
          </a:ln>
        </p:spPr>
      </p:sp>
      <p:sp>
        <p:nvSpPr>
          <p:cNvPr id="17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5) </a:t>
            </a:r>
            <a:r>
              <a:rPr b="0" lang="en-US" sz="1200" spc="-1" strike="noStrike">
                <a:solidFill>
                  <a:srgbClr val="000000"/>
                </a:solidFill>
                <a:latin typeface="Arial"/>
              </a:rPr>
              <a:t>All others are dead, including the women and children.  Now, there is a problem.  The Israelites realize that one of the tribes of Israel is on the verge of extinction.  They come up with a plan to prevent it from happening. Since the city of Jabesh-Gilead did not respond to the assembly, they will wipe out that town, all the men and women and children, and kidnap the young virgins as wives for the remaining men of Benjamin.  It almost worked, but only 400 young virgins survived, so they needed another 200.  There is an additional problem. All the men of Israel had vowed to never give their daughters as wives to the men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y ask themselves, “What shall we do for wives for those who are left, since there are no women left in Benjamin?”  And they said, “There must be heirs for the survivors of Benjamin, in order that a tribe may not be blotted out from Israel. Yet we cannot give any of our daughters to them as wiv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701280" y="663120"/>
            <a:ext cx="5607000" cy="8047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young Israelite girl being held in slavery who had compassion on her captor (Naaman) and told him about the prophet who could bring h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ook the Narzarite vows alongside the men (Num 6:2) and separated themselves from the ways of the world to live a life dedicated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Pharaoh of Egypt, who didn’t know Joseph, ordered the death of every male Israelite male child as he was being born, the two Hebrew midwives, at the risk of their lives, refused to cooperate and the nation of Israel was once more secure (Ex.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though we walk upon holy ground as we begin this journey in this study about the women of Old Testament times. Within every story, under every word – we find a glimpse of the heart of God.  What he loved, what He despised, His willingness to work through the lives of women devoted to Hi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 – Being Woman in Ancient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rior seminar you had the opportunity to study in detail what it was like for a woman to live in the time of the Old and New Testaments.  Today we’ll just quickly go over some details that will help us to be better able to understand some of the circumstances we’ll be talking about as we look at the lives of some of the Old Testament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rn in Genesis 1:26-27 that woman was created in the image of God.  While Adam was created from the dust of the ground (Gen 2:7), Eve was created from one of Adam’s ribs (Gen.2:21-22).  This was to signify the intimate relationship Adam and Eve were to have, an inseparable unity and fellowship.  Eve was to be Adam’s complement, essential to the completion of his being.  Both men and women were endowed for equality and mutual interdependence.  Adam was given headship but this did not mean superiority.  The Fall caused a distortion of all that God had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it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world was predominantly a man’s world, but women enjoyed a status in Israel not generally experienced in the East.  So, as we consider some of the things that we would consider as very oppressive we need to keep in mind that the Israelites were not quite as bad as most of the other cultures. The Israelites held their women in higher esteem, honor and affection.  There were even a few laws designed to protect women (see Deut. 21:10-14; 22:13; 22:28).  But, an Israelite woman was basically her husband’s property and she owed him absolute fidelity and she recognized her husband as lord and master.  The decline of how the Israelite society treated women was always due to the invasion of heathen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73320" y="609480"/>
            <a:ext cx="2625840" cy="1970280"/>
          </a:xfrm>
          <a:prstGeom prst="rect">
            <a:avLst/>
          </a:prstGeom>
          <a:ln w="0">
            <a:noFill/>
          </a:ln>
        </p:spPr>
      </p:sp>
      <p:sp>
        <p:nvSpPr>
          <p:cNvPr id="179"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6) </a:t>
            </a:r>
            <a:r>
              <a:rPr b="0" lang="en-US" sz="1200" spc="-1" strike="noStrike">
                <a:solidFill>
                  <a:srgbClr val="000000"/>
                </a:solidFill>
                <a:latin typeface="Arial"/>
              </a:rPr>
              <a:t>The problem is solved at Shiloh.  A yearly festival of the Lord is celebrated there.  The plan is simple.  When the “young women of Shiloh come out to dance in the dances, then come out of the vineyard and each of you carry off a wife for himself from the young women of Shiloh, and go to the land of Benjamin.” If their fathers or brothers should complain to us, we will say “Be generous and allow us to have them; because we did not capture in battle a wife for each man.  But neither did you incur guilt by giving your daughters to them.” The rape of one woman has turned into the rape of 600. Israel is at its lowest point.  The refrain of the last few chapters is “In those days there was no king in Israel; all the people did what was right in their own ey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94040" y="685800"/>
            <a:ext cx="2420640" cy="1817640"/>
          </a:xfrm>
          <a:prstGeom prst="rect">
            <a:avLst/>
          </a:prstGeom>
          <a:ln w="0">
            <a:noFill/>
          </a:ln>
        </p:spPr>
      </p:sp>
      <p:sp>
        <p:nvSpPr>
          <p:cNvPr id="181"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CHSAH TO THE CONCUBINE (OH-1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often noted in the rest of the book of Judges.  Just as the story of Othniel is seen as a pattern for the rest of the major judges, so the story of Achsah is seen as a model for women in the book.  The model she provides is often turned upside down. The story of Achsah, the Israelite bride who brings her husband wealth, is set against the story of Samson whose foreign wives bring him disaster.  The marriage of Achsah to a hero of the tribe is set against the marriage of Gideon to a concubine, which produces the villain Abimelech who destroys the family and nearly destroys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concubine seems the ultimate contradiction of the story of Achsah.  The contrasting images of two women riding on a donkey, one a bride, the other a concubine; one talking to her husband and father, the other silent; one establishing a new home in a fertile land; the other dead and cut into twelve pieces to incite a civil w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inverted in these stories, with their images of violence and themes of betrayal.  Yet, the spirit of Achsah lives on in the book, as well.  She lives on in the anonymous “certain woman” who drops a millstone on the head of Abimelech.  His attack is specifically against their crops.  He strikes against the people of the city as they go out to work in their fields.  Women may be an unnatural presence in battle, yet, when an attack comes against their homes and fields, they will defend them with whatever weapon they can lay their hands on.  The “certain woman” is a logical extension of Achsah.  Achsah has planted her crops and will drop millstones on anyone who threatens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 spirit lives, too, in the peaceful stories of the minor judges.  These narratives recall images of brides, daughters, sons, and weddings.  More particularly, Abdon marries off his thirty daughters and brings in thirty daughters for his thirty sons.  Sixty marriages all arranged to build the clan.  And the stories bring with them images of donkeys and travel to newly acquired cities.  The freedom to go about one’s business on the public roads is crucial to peace and prosperity.  The Song of Deborah draws the distinction between days of oppression when “the roads were abandoned,” and days of peace when those who “ride on white donkeys” and those who “walk along the road” are invited to sing the “righteous acts of the Lord.”  There are days of peace in the Book of Judges.  In the midst of the hair-raising stories of deliverance, stories of peace work their way into the Book of Judges, emerging and re-emerging throughout the text.  These stories are in the spirit of Achsah.  They remind us of how it should be in Israel.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609120" y="609120"/>
            <a:ext cx="5607000" cy="73803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y be why Achsah stands out so distinctly.  Her story is a story of how things should be, but are not.  The cooperation of father and daughter vanishes in the story of Jephthah.  The peace of husband and wife disappears in the story of Samson and the story of the concubine.  The support of brother and brother vanishes in the story of Abimelech.  And Israel is constantly defending itself against aggression. Other tribes do not conquer the land as definitively as Caleb and Othniel did so that the Achsahs may thr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book replays the constant rhythm as Israel loses and re-establishes its hold on the land.  The other women we encounter will not be riding on donkeys to their new husbands and their new homes.  They will be defending their homes against foreign aggression or falling as casualties of war, not at the hands of their enemies but at the hands of their countrymen and relatives, victims of friendly fi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chsah is not in these stories.  Don’t look for her in the dead and dismembered body of the concubine.  She is not there.  She survives further on, in the story of Ruth, a story set “in the days when the judges ruled” and a drought had destroyed the land. There, too, we have a story of peace.  Men and women live in peace with each other and with the land.  The older generation looks out for the younger. Parents and children, husbands and wives, and even the in-laws, all live in harmony with each other.  The land is fertile, yielding an abundant harvest.  The city is at peace, its men conducting their business in the city gate.  Here, too, a young woman asks a blessing of the family patriarch and is given more than she reques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eek a framework for the book of Judges, it is here.  The men of Benjamin do not have the last word.  Though treachery and violence pervade the stories of the judges, the concerns of peace work their way into and around the major stories, reminding us why the land was promised in the first place. When they do, we see again the wisdom of Achsah who knows what she needs to settle the land and make it fruitful and the strategy of Caleb who looks ahead to the security of the next gener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23520" y="507960"/>
            <a:ext cx="5607000" cy="7670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God sanctioned monogamy (marriage of one wife or husband at a time.)  Marriage symbolized festive joy and union/communion between God and His people. Polygamy came as sin increased and man perverted the divine ordeal. Lamech (of Cain’s lineage) seemed to be the first to have violated the original ordinance. (Gen 4:23)  By the time of Moses, polygamy had become the norm but it was never Divinely approved.  The Mosaic law sought to limit and restrict such departure from God’s original plan by setting humane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 was originally instituted to protect the sanctity of marriage by allowing divorce when the spouse was unfaithful.  (See Matthew 19:8-9)  The public dissolution of the marriage contract was, in some cases, allowed by the Law of Moses.  But this allowance was often abused and men would often try to divorce their wives for trivial things.  A man could write a statement of divorce, hand it to his wife and send her on her way.  She would usually have to return to her parents home but she was free to rem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 Israel was the cornerstone of society. Women administered the affairs of the home by caring for the children, training their daughters in the skills needed to run a household, grinding the grain, churning the butter, preparing the meals, inviting and receiving guests, drawing water for household use as well as for the guests and camels, and they spun wool to make the family’s clothes. [Lest you wonder if the men worked: their duties included working the fields, planting and caring for the crops, maintaining stone fences and grape or olive presses, and they trained the boys for their future role as husband and father.  The wives would help with the harv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287440" y="609480"/>
            <a:ext cx="2625840" cy="1970280"/>
          </a:xfrm>
          <a:prstGeom prst="rect">
            <a:avLst/>
          </a:prstGeom>
          <a:ln w="0">
            <a:noFill/>
          </a:ln>
        </p:spPr>
      </p:sp>
      <p:sp>
        <p:nvSpPr>
          <p:cNvPr id="148"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rael stands on the borders of the Promised Land, it faces a daunting task.  This group of wanderers must enter the land of Palestine, conquer it, and settle it. The book of Judges tells the story of this settlement period between the Exodus and the Monarchy.  Here we find the stories of Ehud, Deborah, Gideon, Jephthah, and Samson.  These are the stories told around the campfires of early Israel, stories of heroism and conquest, stories of the time when the judges ru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time of war.  War stories tend to be men’s stories.  Women are not normally expected to be prominent characters in stories of warfare.  But in Judges 1, Achsah, the forthright daughter of Caleb, makes a surprise appearance on the stage of action, the first of many women to do so. In fact, understanding the prominent role that women take in this man’s world of wars and conquest has become one of the keys to understanding the book.  Here we read the stories of Achsah, Deborah, Jael, the Certain Woman of the Abimelech story, Jephthah’s daughter, the many women of Samson’s life, Micah’s mother, the Levite’s concubine, and the host of wives and daughters that populate the stories of Judges.  As we will see, the fate of these women is intricately connected to the fate of Israe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109960" y="533520"/>
            <a:ext cx="2523960" cy="1893600"/>
          </a:xfrm>
          <a:prstGeom prst="rect">
            <a:avLst/>
          </a:prstGeom>
          <a:ln w="0">
            <a:noFill/>
          </a:ln>
        </p:spPr>
      </p:sp>
      <p:sp>
        <p:nvSpPr>
          <p:cNvPr id="150" name="PlaceHolder 2"/>
          <p:cNvSpPr>
            <a:spLocks noGrp="1"/>
          </p:cNvSpPr>
          <p:nvPr>
            <p:ph type="body"/>
          </p:nvPr>
        </p:nvSpPr>
        <p:spPr>
          <a:xfrm>
            <a:off x="701280" y="2514600"/>
            <a:ext cx="5607000" cy="6400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WISDOM OF ACHSAH</a:t>
            </a:r>
            <a:r>
              <a:rPr b="0" lang="en-US" sz="1200" spc="-1" strike="noStrike">
                <a:solidFill>
                  <a:srgbClr val="000000"/>
                </a:solidFill>
                <a:latin typeface="Arial"/>
              </a:rPr>
              <a:t>   (Judges 1:11-15) </a:t>
            </a:r>
            <a:r>
              <a:rPr b="1" lang="en-US" sz="1200" spc="-1" strike="noStrike">
                <a:solidFill>
                  <a:srgbClr val="000000"/>
                </a:solidFill>
                <a:latin typeface="Arial"/>
              </a:rPr>
              <a:t>(OH-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like the other women in the book, appears where we would least expect to find her.  The first chapter of Judges is an account, or a re-account, of the division of the land described in the Book of Joshua.  It describes the cities taken and boundaries drawn and establishes the context for the hero stories to follow.  It forms an unlikely backdrop for a wedding story.  Rather, it moves us from the concerns of conquest to the concerns of settlement, from the world of war to that of peace, from the generation of Caleb to that of Othni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has the air of a fairy tale about it, with the familiar motifs of kings and challenges, daughters and heroes, battles and weddings.  One might expect it to begin with “Once upon a time there was a mighty chieftain who had a beautiful daughter” and end with “They lived happily ever after.”  In between, there simply has to be a wedding. The story presets a problem to be solved.  An aging chieftain must conquer a city and arrange for the future of his daughter in a new and unsettled land.  Can he do both at the same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begins as Caleb issues a challenge that connects these two concerns. The story of a daughter given as a reward for victory may set a modern reader’s teeth on edge.  But this is the stuff of which good stories are made.  Who can win the hand of the beautiful daughter?  Only he who slays the dragon and saves the kingdom can have her hand.  She is not the prize of a trivial tournament or a capricious game.  She is a symbol of ultimate worth.  My kingdom.  My daughter.  The safety and continuity of the kingdom are connected with her.  Winning her hand requires feats of valor, which benefit the community.  Here the challenge is one of the great Canaanite cities.  Who is going to take the city of Debir?  Only the wisest and strongest man in the land. Who is worthy of marrying the chief’s daughter?  Only the wisest and strongest man in the land.  “You want to marry my daughter?  Bring me a city and we’ll tal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s choice of a husband for his daughter proves to be a good one.  Othniel is the first of the major judges, and a model one, at that. He does not assume leadership by any right of succession.  He is chosen by the spirit of Yahweh.  But by setting up his task and bestowing a rich dowry, Caleb ensures that worthy men are brought into positions of influence. The story could have ended at verse 12. Caleb issues the challenge; Othniel takes the city and marries the chieftain’s daughter.  The action is complet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t this point, Achsah enters the story, and a new story begins.  She is not a silent woman being transferred from one male custodian to another.  She has lines.  Not only does she have a name and an inheritance, but also opinions and a speaking part on this masculine st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56840" y="380520"/>
            <a:ext cx="6248520" cy="845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chsah enters, she brings with her familiar motifs of daughters, wells, donkeys, marriage, and blessings.   The story seems to take place on her wedding day.  All the marriage negotiations between the father of the bride and the potential bridegroom have taken place.  He has bestowed on his daughter a generous dowry of land.  The gift is very generous.  Usually a dowry consists of household goods or money, portable goods that can be taken to the groom’s home.  It is a gift of the father to the bride and is meant to ensure her prosperity and security if something should happen to the marriage.  Land is reserved for the sons as their inheritance. But not in Ashsah’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now arrives on the scene and sees the result of their negotiation and determines it is not enough.  She speaks and acts with dispatch.  The first family council is a short one.  Urgent business is at hand and time is short.  They are mounted on their donkeys ready for the journey to their new home, but something more must be done before this wedding day is over.  Achsah has been given the dowry of the southern Negev-land.  It is dry, desert land.  In order to make it thrive, she needs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urges her new husband to ask her father for a field, or tillable land.  But he remains silent while she immediately asks for it herself.  Why doesn’t Othniel ask for it himself?  He is in an awkward position.  Caleb has already bestowed on the bride the land of the Negev.  How can you tell your new father-in-law that his wedding gift is not good enough?  “How can we ask for more?” I can hear him saying.  But Achsah is Caleb’s daughter, and she can ask for whatever she wants.  She does not hesitate a moment to present her need to her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ooner are the words out of her mouth, but she acts on them.  In a gesture of respect, she gets off her donkey to speak with her father.  Her action is only preparatory to her request.  It gets Caleb’s attention, and he asks her what she wants.  Clearly something important is on her mind.  “What do you wish?” he asks her.  His question invites her to speak and implies a willingness to give her whatever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makes her request in the context of gifts already given.  Caleb has given her the Negev.  Now, she says in language that evokes the request of Jacob and Esau of their father, “Give me a blessing.  Give me also springs of water.”  She links her request with his previous gift and shows him the connection.  Since you have given me dry southland, give me also springs of water.  She speaks in the imperative.  This you have done; this you need to do.  And this is the reason.  Her logic is unassailable, and without comment or argument, Caleb gives her what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 responds instantly with the generosity of a father.  “Of course.  Water.  You will need water.”  So, he grants her request in double measure.  She asks for springs; he gives her two, the upper springs and the lower springs.  “Here, take these.  And these, too.”  The bounty of the father responds to the need of the daughter.  Her request is actually outlandish.  Only chieftains own wells.  In a desert country, access to water is crucial for life.  Her request is absolutely crucial to the success of their enterprise.  Without wells, her family in all future generations will be living the nomadic life searching for water, catching rainwater in cisterns.  With wells, one has a dependable supply of water for crops and herds. The wisdom of Achsah obtains the springs necessary to cultivate the land and make it fruitful.  The generosity of the father gives them to her as her dowry, not just the upper spring, but the lower o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147760" y="685800"/>
            <a:ext cx="2524320" cy="1893960"/>
          </a:xfrm>
          <a:prstGeom prst="rect">
            <a:avLst/>
          </a:prstGeom>
          <a:ln w="0">
            <a:noFill/>
          </a:ln>
        </p:spPr>
      </p:sp>
      <p:sp>
        <p:nvSpPr>
          <p:cNvPr id="153"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ORAH AND JAEL </a:t>
            </a:r>
            <a:r>
              <a:rPr b="0" lang="en-US" sz="1200" spc="-1" strike="noStrike">
                <a:solidFill>
                  <a:srgbClr val="000000"/>
                </a:solidFill>
                <a:latin typeface="Arial"/>
              </a:rPr>
              <a:t>(Judges 4:5) </a:t>
            </a:r>
            <a:r>
              <a:rPr b="1" lang="en-US" sz="1200" spc="-1" strike="noStrike">
                <a:solidFill>
                  <a:srgbClr val="000000"/>
                </a:solidFill>
                <a:latin typeface="Arial"/>
              </a:rPr>
              <a:t>(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man we meet in the book of Judges is Deborah, the wife of Lappidoth, also translated as “woman of flame.”  Deborah is the only one of the major judges who engages in what we would traditionally regard as the activity of judging.  She sat in judgment under the palm of Deborah and the people of Israel came to her to resolve disputes.  And she was also a prophet, one who had direct communication with God.  The Song calls her a “mother in Isra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Deborah calls Israel to war and conveys to Barak, the military leader, the strategy that God has given her to defeat the iron chariots of Sisera.  Barak is hesitant.  We don’t know why.  Barak is one of the reluctant heroes of Judges.  Maybe he is testing Deborah to see how much she believes in her own message; maybe he wants the assurance of God’s prophet with him when he faces the mighty power of the Canaanites.  Whatever his reason, the story sets us up for a surprise.  She will go with him, she says, but God will not give him the glory, but instead will deliver Sisera into the hands of a woman.  But the woman is not Deborah.  She is not even an Israelite.  The surprise deliverer of Israel is Jael, the wife of Heber the Ken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story is told twice, once in the prose history of chapter four and once in the Song of Deborah sung on the day of victory.  Jael is one of the unlikely heroes of the Book of Judges.  Her clan was at peace with the Canaanite king Jabin from Hazor.  But now Sisera, the commander of the armies, is on the run.  He had gathered all his troops and his 900 chariots of iron at the Wadi Kishon ready to attack. Just when he had all his men and chariots arrayed for battle, Deborah rallies the Israelites for the Lord.  She says to Barak, “Up! For this is the day on which the Lord has given Sisera into your hand. The Lord is indeed going out before you.”  So, Barak and ten thousand warriors swoop down from Mount Tabor, and “The Lord threw Sisera and all his chariots and all his army into a panic before Barak.”  At the end of the day, not one of the Canaanite forces is left but Siser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13080" y="228600"/>
            <a:ext cx="2031840" cy="1523880"/>
          </a:xfrm>
          <a:prstGeom prst="rect">
            <a:avLst/>
          </a:prstGeom>
          <a:ln w="0">
            <a:noFill/>
          </a:ln>
        </p:spPr>
      </p:sp>
      <p:sp>
        <p:nvSpPr>
          <p:cNvPr id="155" name="PlaceHolder 2"/>
          <p:cNvSpPr>
            <a:spLocks noGrp="1"/>
          </p:cNvSpPr>
          <p:nvPr>
            <p:ph type="body"/>
          </p:nvPr>
        </p:nvSpPr>
        <p:spPr>
          <a:xfrm>
            <a:off x="609480" y="1752480"/>
            <a:ext cx="6019920" cy="6858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4) </a:t>
            </a:r>
            <a:r>
              <a:rPr b="0" lang="en-US" sz="1200" spc="-1" strike="noStrike">
                <a:solidFill>
                  <a:srgbClr val="000000"/>
                </a:solidFill>
                <a:latin typeface="Arial"/>
              </a:rPr>
              <a:t>Enter Jael.  Sisera is making his way to her tent.  She comes out to meet him.  “Turn aside, my Lord,” she says, “turn aside to me; have no fear.”  So he did.  And she covered him with a rug, likely one she had woven herself, brought him a drink of milk, likely from her own goats, and listened as he ordered her to stand by the door and re-direct anyone who might be looking for him.  Then, she acts to fulfill the prophecy of Deborah:  “But Jael, wife of Heber, took a tent peg, and took a hammer in her hand, and went softly to him and drove the peg into his temple, until it went down into the ground - he was lying fast asleep from weariness - and he di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of the heroes of Judges, she used household implements as weapons. For instance, Shamgar (3:31) kills 600 Philistines with an oxgoad. Jael knew how to wield a hammer and a tent peg.  She would know how to pitch the tent and keep it sturdy.  We will see other household implements become weapons of war, as well.  Women don’t go marching off to war, but when the battle comes to their doorsteps, they fight with wit and wisdom, and with whatever tools are at hand.  Then instruments of peace become instruments of war.  And God works through them: “So on that day God subdued King Jabin of Canaan before the Israeli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 account of Judges 4 reads like a history, while the Song of chapter 5 is a victory celebration.  Deborah and Barak sing it on the day of battle, celebrating the victory of God over his enemies “In the days of Shamgar . . . in the days of Jael”. (5:6) This is God’s battle.  He comes marching out of the high rocky steeps of Edom, and “The mountains quaked before the Lord, the One of Sinai” (5:5).  Remember Wadi Kishon where Sisera assembles his 900 chariots? Imagine Sisera’s surprise as the dry riverbed at the base of Mt Tabor begins to swell with rainwater.  What happens to chariots of iron when the ground gets muddy and soggy?  Imagine the Israelite’s relish as they sing of God’s victory: “The stars fought from heaven, from their courses they fought against Sisera.  The torrent Kishon swept them away, the onrushing torrent, the torrent Kishon.  March on, my soul, with might!” (5:20-2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od works through human agencies, and the people of Israel are lavish in their praise of their neighbor woman, Jael: “Most blessed of women be Jael, the wife of Heber the Kenite, of tent-dwelling women most blessed.” (5:24) With relish they tell the story of her conquest of the enemy warrior.  The details of the history are sung and enhanced: “He asked water and she gave him milk, she brought him curds in a lordly bowl.”  The action is drawn out, and we watch her every move, as “she struck Sisera a blow.”  And listen to the exuberance as they sing of the fall of Siser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y still at her fe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er feet 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e sank, there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109960" y="533520"/>
            <a:ext cx="2319120" cy="1741320"/>
          </a:xfrm>
          <a:prstGeom prst="rect">
            <a:avLst/>
          </a:prstGeom>
          <a:ln w="0">
            <a:noFill/>
          </a:ln>
        </p:spPr>
      </p:sp>
      <p:sp>
        <p:nvSpPr>
          <p:cNvPr id="157" name="PlaceHolder 2"/>
          <p:cNvSpPr>
            <a:spLocks noGrp="1"/>
          </p:cNvSpPr>
          <p:nvPr>
            <p:ph type="body"/>
          </p:nvPr>
        </p:nvSpPr>
        <p:spPr>
          <a:xfrm>
            <a:off x="701280" y="2438280"/>
            <a:ext cx="5607000" cy="6161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ERA’S MOTHER </a:t>
            </a:r>
            <a:r>
              <a:rPr b="0" lang="en-US" sz="1200" spc="-1" strike="noStrike">
                <a:solidFill>
                  <a:srgbClr val="000000"/>
                </a:solidFill>
                <a:latin typeface="Arial"/>
              </a:rPr>
              <a:t>(Judges 5:28-30) </a:t>
            </a:r>
            <a:r>
              <a:rPr b="1" lang="en-US" sz="1200" spc="-1" strike="noStrike">
                <a:solidFill>
                  <a:srgbClr val="000000"/>
                </a:solidFill>
                <a:latin typeface="Arial"/>
              </a:rPr>
              <a:t>(OH-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woman makes an appearance in the Song of Deborah.  A frequent motif in ancient Near Eastern art is the picture of a woman’s face looking out a window.  I wonder if the singers of Israel were thinking of this when they sang of Sisera’s m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the window, she pe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her of Sisera ga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lat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ght feel a tug of sympathy for a mother waiting for her son to come home from war.  Whatever the differences in nationalities or politics, mothers are universal and mothers everywhere love their children.  And like any mother who waits anxiously for an overdue child to come home, she wonders, “Why is his chariot so long in coming?  Why tarry the hoof beats of his horses?”  Any mother would sympathize, but what would the Israelite mother think when she hears what Sisera’s mother is thinking?  Her wise ladies of the court answer her question; they affirm what she is thinking herself.  Sisera is busy.  What is he busy doing?  He is dividing the spoil.  In fact, he is picking out some particularly beautiful goods for her, embroidered clothes, carefully embroidered by Israelite women, something extra nice for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at is not all.  What else does she imagine her son dividing up?  The Israelite women themselves -”a girl or two for every man.” She knows the customs of the times.  The laws of Moses attempted to eradicate this custom by decreeing that the women of a defeated people be treated with respect (Deut 21:10-14), but Sisera’s mother knows of no such law.  She doesn’t even have the natural sympathy of one woman for another.   So, the Israelites have no sympathy for her.  In fact, they know something that she doesn’t.  She is in for a surprise.  The wise ladies of the Canaanite court are wrong.  Israelite women are not lying at the feet of Sisera.  No, indeed.  Sisera is lying dead at the feet of a woman.  And once again the heroine of the hour is praised.  God is praised.  His is the victory.  But his instrument is the woman Ja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958C4-6F66-41B2-ABF2-BCE40D4B4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342F-137E-4454-A052-CB797D2E9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AE87F-B876-4086-856D-93B9E3703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E3F2-965E-43BC-8956-FB3413ADC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DD182-BE60-4B44-81CF-50FC68FF9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599DD-4CCF-4207-98EE-960D8B74A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0BBB8-B845-474F-9E2E-1FD40B76C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1D18E-FFF2-476C-979C-BB3FAC897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E0800-C832-41E1-BACC-905A62058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27B03-625D-4BFB-A265-8CFDD3092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F33F7-18FC-482B-BFC6-FE5800544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B9D4B-ACB1-4A52-AC68-F9251AB58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90CAF-EFA1-4A94-997E-1E08EB6BC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04888-2774-4DC4-807E-B5CD6A3CA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F6DF1-DDAF-4CAD-9B07-584145D2B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22296-2193-4665-AB4E-77E5B3D6D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54A1C-DEC8-4523-949A-D3A65C055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F772E-3D7F-48FC-8844-FF9C2B6C8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4DC3-E0CA-40DB-B687-EF56BC123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16F0C-9CF4-46D1-9213-C796CE8E5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E8793-6A74-4911-8CAD-8A600348D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0914-D8F5-4E7F-BF73-99887D8D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1AA39-3110-4245-87B5-F67453432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241E-46CC-4405-B7FA-41F3D6D88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19DA-D333-43B7-9489-5F95E5A990B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51D7-D9FC-4131-A3C3-B7D6C364753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entaur"/>
              </a:rPr>
              <a:t>Women of the Old Testament</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y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Leadership Certification Le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General Conferenc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Women’s Mini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380880"/>
            <a:ext cx="6933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Family of Gideon</a:t>
            </a:r>
            <a:endParaRPr b="0" lang="en-US" sz="4800" spc="-1" strike="noStrike">
              <a:solidFill>
                <a:srgbClr val="ccecff"/>
              </a:solidFill>
              <a:latin typeface="Arial Black"/>
            </a:endParaRPr>
          </a:p>
        </p:txBody>
      </p:sp>
      <p:sp>
        <p:nvSpPr>
          <p:cNvPr id="111" name="PlaceHolder 2"/>
          <p:cNvSpPr>
            <a:spLocks noGrp="1"/>
          </p:cNvSpPr>
          <p:nvPr>
            <p:ph/>
          </p:nvPr>
        </p:nvSpPr>
        <p:spPr>
          <a:xfrm>
            <a:off x="1752480" y="1676160"/>
            <a:ext cx="7010640" cy="28954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women in Gideon’s life are not well known, but still significant</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Gideon had 70 sons by many wives</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concubine from Shechem bore him a son who was named Abimelech</a:t>
            </a:r>
            <a:endParaRPr b="0" lang="en-US" sz="3200" spc="-1" strike="noStrike">
              <a:solidFill>
                <a:srgbClr val="ffffff"/>
              </a:solidFill>
              <a:latin typeface="Arial"/>
            </a:endParaRPr>
          </a:p>
        </p:txBody>
      </p:sp>
      <p:pic>
        <p:nvPicPr>
          <p:cNvPr id="112"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80520"/>
            <a:ext cx="769608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tone for Stone: The Certain Woman of Thebez </a:t>
            </a:r>
            <a:endParaRPr b="0" lang="en-US" sz="4800" spc="-1" strike="noStrike">
              <a:solidFill>
                <a:srgbClr val="ccecff"/>
              </a:solidFill>
              <a:latin typeface="Arial Black"/>
            </a:endParaRPr>
          </a:p>
        </p:txBody>
      </p:sp>
      <p:sp>
        <p:nvSpPr>
          <p:cNvPr id="114" name="PlaceHolder 2"/>
          <p:cNvSpPr>
            <a:spLocks noGrp="1"/>
          </p:cNvSpPr>
          <p:nvPr>
            <p:ph/>
          </p:nvPr>
        </p:nvSpPr>
        <p:spPr>
          <a:xfrm>
            <a:off x="838080" y="2209320"/>
            <a:ext cx="7848720" cy="4419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fter Gideon’s death Abimelech murders all 70 of his brother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then takes an army through Israel destroying cities and crops and killing all the inhabitant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t the town of Thebez all the people gather in a tower to protect themselve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Abimelech attacks a “certain woman” throws a millstone on his head and kills him</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gain, Israel is safe because of the actions of a woman</a:t>
            </a:r>
            <a:endParaRPr b="0" lang="en-US" sz="2800" spc="-1" strike="noStrike">
              <a:solidFill>
                <a:srgbClr val="ffffff"/>
              </a:solidFill>
              <a:latin typeface="Arial"/>
            </a:endParaRPr>
          </a:p>
        </p:txBody>
      </p:sp>
      <p:pic>
        <p:nvPicPr>
          <p:cNvPr id="115" name="" descr=""/>
          <p:cNvPicPr/>
          <p:nvPr/>
        </p:nvPicPr>
        <p:blipFill>
          <a:blip r:embed="rId2"/>
          <a:srcRect l="20689" t="24144" r="17244" b="17244"/>
          <a:stretch/>
        </p:blipFill>
        <p:spPr>
          <a:xfrm>
            <a:off x="228600" y="91440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304920"/>
            <a:ext cx="6629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Jephthah’s Daughter</a:t>
            </a:r>
            <a:endParaRPr b="0" lang="en-US" sz="4800" spc="-1" strike="noStrike">
              <a:solidFill>
                <a:srgbClr val="ccecff"/>
              </a:solidFill>
              <a:latin typeface="Arial Black"/>
            </a:endParaRPr>
          </a:p>
        </p:txBody>
      </p:sp>
      <p:sp>
        <p:nvSpPr>
          <p:cNvPr id="117" name="PlaceHolder 2"/>
          <p:cNvSpPr>
            <a:spLocks noGrp="1"/>
          </p:cNvSpPr>
          <p:nvPr>
            <p:ph/>
          </p:nvPr>
        </p:nvSpPr>
        <p:spPr>
          <a:xfrm>
            <a:off x="380520" y="1219320"/>
            <a:ext cx="6172200" cy="54864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s mother was a prostitute, so his brothers disowned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 returned from a victory in battle, and his only daughter came out to greet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made him very upset because he had vowed to sacrifice to God the first thing to come out of his house when he returned victorious</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is daughter told him to honor his vow, but asked for two months to grieve first before he killed her</a:t>
            </a:r>
            <a:endParaRPr b="0" lang="en-US" sz="2800" spc="-1" strike="noStrike">
              <a:solidFill>
                <a:srgbClr val="ffffff"/>
              </a:solidFill>
              <a:latin typeface="Arial"/>
            </a:endParaRPr>
          </a:p>
        </p:txBody>
      </p:sp>
      <p:pic>
        <p:nvPicPr>
          <p:cNvPr id="118" name="" descr=""/>
          <p:cNvPicPr/>
          <p:nvPr/>
        </p:nvPicPr>
        <p:blipFill>
          <a:blip r:embed="rId2"/>
          <a:stretch/>
        </p:blipFill>
        <p:spPr>
          <a:xfrm>
            <a:off x="5867280" y="1447920"/>
            <a:ext cx="3276720" cy="42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Ibzan the Matchmaker</a:t>
            </a:r>
            <a:endParaRPr b="0" lang="en-US" sz="4800" spc="-1" strike="noStrike">
              <a:solidFill>
                <a:srgbClr val="ccecff"/>
              </a:solidFill>
              <a:latin typeface="Arial Black"/>
            </a:endParaRPr>
          </a:p>
        </p:txBody>
      </p:sp>
      <p:sp>
        <p:nvSpPr>
          <p:cNvPr id="120" name="PlaceHolder 2"/>
          <p:cNvSpPr>
            <a:spLocks noGrp="1"/>
          </p:cNvSpPr>
          <p:nvPr>
            <p:ph/>
          </p:nvPr>
        </p:nvSpPr>
        <p:spPr>
          <a:xfrm>
            <a:off x="762120" y="1447920"/>
            <a:ext cx="7696080" cy="48765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udges has many small stories of minor judg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tell where a judge lived, how long he ruled, that he died, and where he was buried</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Ibzan was a minor judge who had 30 sons and 30 daughter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carefully arranged marriages for all of them with spouses from outside his clan</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areful planning enlarged his clan’s allianc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ontrasts sharply with Jephthah’s foolish vow which ended his family l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304920"/>
            <a:ext cx="7010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a:t>
            </a:r>
            <a:endParaRPr b="0" lang="en-US" sz="4800" spc="-1" strike="noStrike">
              <a:solidFill>
                <a:srgbClr val="ccecff"/>
              </a:solidFill>
              <a:latin typeface="Arial Black"/>
            </a:endParaRPr>
          </a:p>
        </p:txBody>
      </p:sp>
      <p:sp>
        <p:nvSpPr>
          <p:cNvPr id="122" name="PlaceHolder 2"/>
          <p:cNvSpPr>
            <a:spLocks noGrp="1"/>
          </p:cNvSpPr>
          <p:nvPr>
            <p:ph/>
          </p:nvPr>
        </p:nvSpPr>
        <p:spPr>
          <a:xfrm>
            <a:off x="380520" y="1218960"/>
            <a:ext cx="769644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s mother is barren until an angel announces his birth and gives her special instructions to follow in raising him</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is to be raised as a Nazirite</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his mother tells his father, his father asks God for another angel visit to give him instructions</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appears again to Samson’s mother who gets his fat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says only that his mother should follow the instructions already given 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 is not exactly a model leader</a:t>
            </a:r>
            <a:endParaRPr b="0" lang="en-US" sz="2800" spc="-1" strike="noStrike">
              <a:solidFill>
                <a:srgbClr val="ffffff"/>
              </a:solidFill>
              <a:latin typeface="Arial"/>
            </a:endParaRPr>
          </a:p>
        </p:txBody>
      </p:sp>
      <p:pic>
        <p:nvPicPr>
          <p:cNvPr id="123" name="" descr=""/>
          <p:cNvPicPr/>
          <p:nvPr/>
        </p:nvPicPr>
        <p:blipFill>
          <a:blip r:embed="rId2"/>
          <a:stretch/>
        </p:blipFill>
        <p:spPr>
          <a:xfrm>
            <a:off x="7788240" y="342900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7391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 </a:t>
            </a:r>
            <a:r>
              <a:rPr b="0" lang="en-US" sz="3600" spc="-1" strike="noStrike">
                <a:solidFill>
                  <a:srgbClr val="ffffcc"/>
                </a:solidFill>
                <a:latin typeface="Centaur"/>
              </a:rPr>
              <a:t>cont</a:t>
            </a:r>
            <a:endParaRPr b="0" lang="en-US" sz="3600" spc="-1" strike="noStrike">
              <a:solidFill>
                <a:srgbClr val="ccecff"/>
              </a:solidFill>
              <a:latin typeface="Arial Black"/>
            </a:endParaRPr>
          </a:p>
        </p:txBody>
      </p:sp>
      <p:sp>
        <p:nvSpPr>
          <p:cNvPr id="125" name="PlaceHolder 2"/>
          <p:cNvSpPr>
            <a:spLocks noGrp="1"/>
          </p:cNvSpPr>
          <p:nvPr>
            <p:ph/>
          </p:nvPr>
        </p:nvSpPr>
        <p:spPr>
          <a:xfrm>
            <a:off x="380880" y="1066320"/>
            <a:ext cx="822960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has many relationships with Philistine wo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asks his parents to arrange a marriage with a Timnite woman, which ends disastrousl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Delilah is no innocent pawn among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personally arranges with the Philistine leaders to discover Samson’s secret</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never lies to Samson—he knows all along that she is after his secret to destroy him</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succeeds, but God uses Samson to deliver Israel anyway</a:t>
            </a:r>
            <a:endParaRPr b="0" lang="en-US" sz="2800" spc="-1" strike="noStrike">
              <a:solidFill>
                <a:srgbClr val="ffffff"/>
              </a:solidFill>
              <a:latin typeface="Arial"/>
            </a:endParaRPr>
          </a:p>
        </p:txBody>
      </p:sp>
      <p:pic>
        <p:nvPicPr>
          <p:cNvPr id="126" name="" descr=""/>
          <p:cNvPicPr/>
          <p:nvPr/>
        </p:nvPicPr>
        <p:blipFill>
          <a:blip r:embed="rId2"/>
          <a:stretch/>
        </p:blipFill>
        <p:spPr>
          <a:xfrm>
            <a:off x="3352680" y="5315040"/>
            <a:ext cx="2114640" cy="15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0"/>
            <a:ext cx="67057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Micah and His Mother</a:t>
            </a:r>
            <a:endParaRPr b="0" lang="en-US" sz="4800" spc="-1" strike="noStrike">
              <a:solidFill>
                <a:srgbClr val="ccecff"/>
              </a:solidFill>
              <a:latin typeface="Arial Black"/>
            </a:endParaRPr>
          </a:p>
        </p:txBody>
      </p:sp>
      <p:sp>
        <p:nvSpPr>
          <p:cNvPr id="128"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steals a fortune in silver from his mother</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curses whoever stole it</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hearing the curse, returns the silver and confesses</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then blesses him and makes part of the silver into an idol for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a:t>
            </a:r>
            <a:endParaRPr b="0" lang="en-US" sz="4800" spc="-1" strike="noStrike">
              <a:solidFill>
                <a:srgbClr val="ccecff"/>
              </a:solidFill>
              <a:latin typeface="Arial Black"/>
            </a:endParaRPr>
          </a:p>
        </p:txBody>
      </p:sp>
      <p:sp>
        <p:nvSpPr>
          <p:cNvPr id="130" name="PlaceHolder 2"/>
          <p:cNvSpPr>
            <a:spLocks noGrp="1"/>
          </p:cNvSpPr>
          <p:nvPr>
            <p:ph/>
          </p:nvPr>
        </p:nvSpPr>
        <p:spPr>
          <a:xfrm>
            <a:off x="609120" y="1066320"/>
            <a:ext cx="7696440" cy="5257800"/>
          </a:xfrm>
          <a:prstGeom prst="rect">
            <a:avLst/>
          </a:prstGeom>
          <a:noFill/>
          <a:ln w="0">
            <a:noFill/>
          </a:ln>
        </p:spPr>
        <p:txBody>
          <a:bodyPr lIns="90000" rIns="90000" tIns="46800" bIns="46800" anchor="t">
            <a:normAutofit fontScale="92000"/>
          </a:bodyPr>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s concubine returns to her father’s hom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goes to bring back his concubin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ir trip back starts late in the day, and they are unable to find lodging</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n old man offers hospital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 crowd gathers outside the old man’s house wanting him to send the Levite out for sexual activ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stead the Levite throws his concubine out and they rape her all nigh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80880"/>
            <a:ext cx="88390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2" name="PlaceHolder 2"/>
          <p:cNvSpPr>
            <a:spLocks noGrp="1"/>
          </p:cNvSpPr>
          <p:nvPr>
            <p:ph/>
          </p:nvPr>
        </p:nvSpPr>
        <p:spPr>
          <a:xfrm>
            <a:off x="533160" y="1371600"/>
            <a:ext cx="7086600" cy="510552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 the morning she crawls back to the old man’s door</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 Levite is ready to go he puts her on a donkey</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y get home he realizes that she is dead and cuts her body into 12 pieces</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sends the 12 pieces to the 12 tribes of Israel as a call to war against her rapists from the tribe of Benjamin</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fter the war only 600 Benjamite men are left alive</a:t>
            </a:r>
            <a:endParaRPr b="0" lang="en-US" sz="3000" spc="-1" strike="noStrike">
              <a:solidFill>
                <a:srgbClr val="ffffff"/>
              </a:solidFill>
              <a:latin typeface="Arial"/>
            </a:endParaRPr>
          </a:p>
        </p:txBody>
      </p:sp>
      <p:pic>
        <p:nvPicPr>
          <p:cNvPr id="133"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80880"/>
            <a:ext cx="8763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5" name="PlaceHolder 2"/>
          <p:cNvSpPr>
            <a:spLocks noGrp="1"/>
          </p:cNvSpPr>
          <p:nvPr>
            <p:ph/>
          </p:nvPr>
        </p:nvSpPr>
        <p:spPr>
          <a:xfrm>
            <a:off x="533160" y="1523520"/>
            <a:ext cx="8001000" cy="4876920"/>
          </a:xfrm>
          <a:prstGeom prst="rect">
            <a:avLst/>
          </a:prstGeom>
          <a:noFill/>
          <a:ln w="0">
            <a:noFill/>
          </a:ln>
        </p:spPr>
        <p:txBody>
          <a:bodyPr lIns="90000" rIns="90000" tIns="46800" bIns="46800" anchor="t">
            <a:normAutofit fontScale="83000"/>
          </a:bodyPr>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don’t want one of their tribes to completely die out, so they have to get the 600 men new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realize that the city of Jabesh-Gilead didn’t participate in the war, so the Israelites attack them</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kill everyone but the virgin women</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collect 400 wives for the Benjamites this way, but 200 men are still without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problem is that the Israelites all vowed to never give their daughters in marriage to Benjamites</a:t>
            </a:r>
            <a:endParaRPr b="0" lang="en-US" sz="3000" spc="-1" strike="noStrike">
              <a:solidFill>
                <a:srgbClr val="ffffff"/>
              </a:solidFill>
              <a:latin typeface="Arial"/>
            </a:endParaRPr>
          </a:p>
          <a:p>
            <a:pPr marL="2844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457200"/>
            <a:ext cx="8839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7"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tell the Benjamites to go to Shiloh, where a religious festival was taking plac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were to hide beside the road, and as the young women passed by they were to kidnap the one they wanted for their wif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 leaders would calm the women’s fathers by reminding them that the Benjamites needed wives, and since they hadn’t “given” the women they hadn’t broken their vow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880"/>
            <a:ext cx="80010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From Achsah  to the Concubine</a:t>
            </a:r>
            <a:endParaRPr b="0" lang="en-US" sz="4800" spc="-1" strike="noStrike">
              <a:solidFill>
                <a:srgbClr val="ccecff"/>
              </a:solidFill>
              <a:latin typeface="Arial Black"/>
            </a:endParaRPr>
          </a:p>
        </p:txBody>
      </p:sp>
      <p:sp>
        <p:nvSpPr>
          <p:cNvPr id="139" name="PlaceHolder 2"/>
          <p:cNvSpPr>
            <a:spLocks noGrp="1"/>
          </p:cNvSpPr>
          <p:nvPr>
            <p:ph/>
          </p:nvPr>
        </p:nvSpPr>
        <p:spPr>
          <a:xfrm>
            <a:off x="304920" y="1523520"/>
            <a:ext cx="8229600" cy="4953240"/>
          </a:xfrm>
          <a:prstGeom prst="rect">
            <a:avLst/>
          </a:prstGeom>
          <a:noFill/>
          <a:ln w="0">
            <a:noFill/>
          </a:ln>
        </p:spPr>
        <p:txBody>
          <a:bodyPr lIns="90000" rIns="90000" tIns="46800" bIns="46800" anchor="t">
            <a:normAutofit fontScale="88000"/>
          </a:bodyPr>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Achsah is a pattern for the other stories of women in the book of Judges</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the concubine is the ultimate contradiction of Achsah’s story</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Many of the women in Judges echo Achsah’s intelligence and independent spiri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chsah’s story shows how things should be</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concubine’s story shows things at their wors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Ruth’s story is another example of how things should be</a:t>
            </a:r>
            <a:endParaRPr b="0" lang="en-US" sz="3000" spc="-1" strike="noStrike">
              <a:solidFill>
                <a:srgbClr val="ffffff"/>
              </a:solidFill>
              <a:latin typeface="Arial"/>
            </a:endParaRPr>
          </a:p>
        </p:txBody>
      </p:sp>
      <p:pic>
        <p:nvPicPr>
          <p:cNvPr id="140" name="" descr=""/>
          <p:cNvPicPr/>
          <p:nvPr/>
        </p:nvPicPr>
        <p:blipFill>
          <a:blip r:embed="rId2"/>
          <a:stretch/>
        </p:blipFill>
        <p:spPr>
          <a:xfrm>
            <a:off x="7848720" y="3124080"/>
            <a:ext cx="1081080" cy="24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  </a:t>
            </a:r>
            <a:r>
              <a:rPr b="0" lang="en-US" sz="4800" spc="-1" strike="noStrike">
                <a:solidFill>
                  <a:srgbClr val="ffffcc"/>
                </a:solidFill>
                <a:latin typeface="Centaur"/>
              </a:rPr>
              <a:t>The Fiery Women of Judges</a:t>
            </a:r>
            <a:endParaRPr b="0" lang="en-US" sz="4800" spc="-1" strike="noStrike">
              <a:solidFill>
                <a:srgbClr val="ccecff"/>
              </a:solidFill>
              <a:latin typeface="Arial Black"/>
            </a:endParaRPr>
          </a:p>
        </p:txBody>
      </p:sp>
      <p:sp>
        <p:nvSpPr>
          <p:cNvPr id="95"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Israel’s early history is frequently one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Women usually aren’t prominent in stories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Understanding the role of women in Israel’s wars is key to understanding the book of Judges</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fate of the women described is intricately connected to the fate of Israel</a:t>
            </a:r>
            <a:endParaRPr b="0" lang="en-US" sz="3200" spc="-1" strike="noStrike">
              <a:solidFill>
                <a:srgbClr val="ffffff"/>
              </a:solidFill>
              <a:latin typeface="Arial"/>
            </a:endParaRPr>
          </a:p>
        </p:txBody>
      </p:sp>
      <p:pic>
        <p:nvPicPr>
          <p:cNvPr id="96"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Wisdom of Achsah</a:t>
            </a:r>
            <a:endParaRPr b="0" lang="en-US" sz="4800" spc="-1" strike="noStrike">
              <a:solidFill>
                <a:srgbClr val="ccecff"/>
              </a:solidFill>
              <a:latin typeface="Arial Black"/>
            </a:endParaRPr>
          </a:p>
        </p:txBody>
      </p:sp>
      <p:sp>
        <p:nvSpPr>
          <p:cNvPr id="98"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is the daughter of Caleb</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man who conquers the city Debir gets her as a wif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Othniel conquers Debir</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a large dowry of desert land</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realizes she needs a water source to make her land productiv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asks Caleb for an additional blessing</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two springs</a:t>
            </a:r>
            <a:endParaRPr b="0" lang="en-US" sz="2800" spc="-1" strike="noStrike">
              <a:solidFill>
                <a:srgbClr val="ffffff"/>
              </a:solidFill>
              <a:latin typeface="Arial"/>
            </a:endParaRPr>
          </a:p>
        </p:txBody>
      </p:sp>
      <p:pic>
        <p:nvPicPr>
          <p:cNvPr id="99"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a:t>
            </a:r>
            <a:endParaRPr b="0" lang="en-US" sz="4800" spc="-1" strike="noStrike">
              <a:solidFill>
                <a:srgbClr val="ccecff"/>
              </a:solidFill>
              <a:latin typeface="Arial Black"/>
            </a:endParaRPr>
          </a:p>
        </p:txBody>
      </p:sp>
      <p:sp>
        <p:nvSpPr>
          <p:cNvPr id="103"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is a judge</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She gives Barak, the military leader, fighting instructions from God</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Barak doesn’t want to go fight unless Deborah goes along</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grees, but says that because of this God will give the glory of the victory to a woman</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Only the commander of the enemy army, Sisera, survives the bat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 </a:t>
            </a:r>
            <a:r>
              <a:rPr b="0" lang="en-US" sz="3200" spc="-1" strike="noStrike">
                <a:solidFill>
                  <a:srgbClr val="ffffcc"/>
                </a:solidFill>
                <a:latin typeface="Centaur"/>
              </a:rPr>
              <a:t>cont.</a:t>
            </a:r>
            <a:endParaRPr b="0" lang="en-US" sz="3200" spc="-1" strike="noStrike">
              <a:solidFill>
                <a:srgbClr val="ccecff"/>
              </a:solidFill>
              <a:latin typeface="Arial Black"/>
            </a:endParaRPr>
          </a:p>
        </p:txBody>
      </p:sp>
      <p:sp>
        <p:nvSpPr>
          <p:cNvPr id="105"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Jael invites him in and gives him a drink of milk</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As Sisera is sleeping Jael kills him by hammering a tent peg through his head</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nd Barak sing a song of victory</a:t>
            </a:r>
            <a:endParaRPr b="0" lang="en-US" sz="3200" spc="-1" strike="noStrike">
              <a:solidFill>
                <a:srgbClr val="ffffff"/>
              </a:solidFill>
              <a:latin typeface="Arial"/>
            </a:endParaRPr>
          </a:p>
        </p:txBody>
      </p:sp>
      <p:pic>
        <p:nvPicPr>
          <p:cNvPr id="106" name="" descr=""/>
          <p:cNvPicPr/>
          <p:nvPr/>
        </p:nvPicPr>
        <p:blipFill>
          <a:blip r:embed="rId2">
            <a:lum contrast="-6000"/>
          </a:blip>
          <a:srcRect l="0" t="0" r="0" b="45884"/>
          <a:stretch/>
        </p:blipFill>
        <p:spPr>
          <a:xfrm>
            <a:off x="228600" y="228600"/>
            <a:ext cx="3270240" cy="2743200"/>
          </a:xfrm>
          <a:prstGeom prst="rect">
            <a:avLst/>
          </a:prstGeom>
          <a:ln w="0">
            <a:noFill/>
          </a:ln>
        </p:spPr>
      </p:pic>
      <p:sp>
        <p:nvSpPr>
          <p:cNvPr id="107"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  </a:t>
            </a:r>
            <a:r>
              <a:rPr b="0" lang="en-US" sz="3200" spc="-1" strike="noStrike">
                <a:solidFill>
                  <a:srgbClr val="ffffcc"/>
                </a:solidFill>
                <a:latin typeface="Centaur"/>
              </a:rPr>
              <a:t>As Sisera is running from the    battle he passes the tent of a woman named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isera’s Mother</a:t>
            </a:r>
            <a:endParaRPr b="0" lang="en-US" sz="4800" spc="-1" strike="noStrike">
              <a:solidFill>
                <a:srgbClr val="ccecff"/>
              </a:solidFill>
              <a:latin typeface="Arial Black"/>
            </a:endParaRPr>
          </a:p>
        </p:txBody>
      </p:sp>
      <p:sp>
        <p:nvSpPr>
          <p:cNvPr id="109" name="PlaceHolder 2"/>
          <p:cNvSpPr>
            <a:spLocks noGrp="1"/>
          </p:cNvSpPr>
          <p:nvPr>
            <p:ph/>
          </p:nvPr>
        </p:nvSpPr>
        <p:spPr>
          <a:xfrm>
            <a:off x="762120" y="1599840"/>
            <a:ext cx="769608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isera’s mother is mentioned in Deborah’s and Barak’s song of victor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is looking out her window and wondering why her son has not returned from battle</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court ladies tell her he must be delayed by dividing up the spoil</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imagine that he is collecting fine clothes and “a girl of two” for all of the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But Sisera isn’t dividing spoil, he’s dead and Israel is safe because of God and a wom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cp:keywords/>
  <dc:language>en-US</dc:language>
  <cp:lastModifiedBy>Melanie Strahle</cp:lastModifiedBy>
  <dcterms:modified xsi:type="dcterms:W3CDTF">2005-11-08T14:35:02Z</dcterms:modified>
  <cp:revision>22</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